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FAC-0FBB-47FE-821B-EAAD0417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AAA-28A4-41A1-84B7-D5AA5D0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089-2DC2-4A5A-8E65-CDC9E8DD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40D-1608-415A-BE27-B2D63F1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B36-13CB-4B73-B718-2242072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9A84-C372-4985-B8BD-B072F083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800-68AE-4697-8523-AB0A71C1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D99-6C7B-4CBB-BBF2-F8976A7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BC49-D458-4168-B864-E376D7DD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B78-5461-4974-8BDC-10D1B9E8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46B-2F5E-4686-A23C-C78492A6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114-0F33-47F3-9FF7-FA34157C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246D-F01B-407F-AFC3-F3DF60FC98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62784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В.Серов  «Девочка  с  персикам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5" descr="картина девочка с персиками"/>
          <p:cNvPicPr/>
          <p:nvPr/>
        </p:nvPicPr>
        <p:blipFill>
          <a:blip r:embed="rId1"/>
          <a:stretch/>
        </p:blipFill>
        <p:spPr>
          <a:xfrm>
            <a:off x="1692360" y="189000"/>
            <a:ext cx="563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640" y="616536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.Коровин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«Роз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Розы"/>
          <p:cNvPicPr/>
          <p:nvPr/>
        </p:nvPicPr>
        <p:blipFill>
          <a:blip r:embed="rId1"/>
          <a:stretch/>
        </p:blipFill>
        <p:spPr>
          <a:xfrm>
            <a:off x="2268360" y="189000"/>
            <a:ext cx="45309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Крамской  «Букет  цветов. Флокс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5" descr="букет цветов"/>
          <p:cNvPicPr/>
          <p:nvPr/>
        </p:nvPicPr>
        <p:blipFill>
          <a:blip r:embed="rId1"/>
          <a:stretch/>
        </p:blipFill>
        <p:spPr>
          <a:xfrm>
            <a:off x="1835280" y="189000"/>
            <a:ext cx="5298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Tahoma"/>
              </a:rPr>
              <a:t>А  теперь  нарисуй  то, что  тебе  кажется  прекрасным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1676160"/>
            <a:ext cx="8893080" cy="29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ahoma"/>
              </a:rPr>
              <a:t>Прекрасное  в  жизни  и  произведениях  искусства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еловеку  всегда  хотелось  запечатлеть  прекрасное,  то,  что  удивляло  и радовало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исовать  люди  научились  еще  в  глубокой  древ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5" descr="image001"/>
          <p:cNvPicPr/>
          <p:nvPr/>
        </p:nvPicPr>
        <p:blipFill>
          <a:blip r:embed="rId1"/>
          <a:stretch/>
        </p:blipFill>
        <p:spPr>
          <a:xfrm>
            <a:off x="250920" y="2565360"/>
            <a:ext cx="2952720" cy="213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0080-19"/>
          <p:cNvPicPr/>
          <p:nvPr/>
        </p:nvPicPr>
        <p:blipFill>
          <a:blip r:embed="rId2"/>
          <a:stretch/>
        </p:blipFill>
        <p:spPr>
          <a:xfrm>
            <a:off x="3059280" y="3429000"/>
            <a:ext cx="3274920" cy="213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Наскальная живопись бушменов"/>
          <p:cNvPicPr/>
          <p:nvPr/>
        </p:nvPicPr>
        <p:blipFill>
          <a:blip r:embed="rId3"/>
          <a:stretch/>
        </p:blipFill>
        <p:spPr>
          <a:xfrm>
            <a:off x="6156360" y="4365720"/>
            <a:ext cx="2808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220"/>
                            </p:stCondLst>
                            <p:childTnLst>
                              <p:par>
                                <p:cTn id="2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72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22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Шли  века.  Некоторые  люди  достигли  высокого  мастерства  в  умении рисовать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Березовая  рощ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5" descr="Березовая роща"/>
          <p:cNvPicPr/>
          <p:nvPr/>
        </p:nvPicPr>
        <p:blipFill>
          <a:blip r:embed="rId1"/>
          <a:stretch/>
        </p:blipFill>
        <p:spPr>
          <a:xfrm>
            <a:off x="971640" y="1413000"/>
            <a:ext cx="72579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Левитан  «Золотая  осен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5" descr="Золотая осень. 1895 год"/>
          <p:cNvPicPr/>
          <p:nvPr/>
        </p:nvPicPr>
        <p:blipFill>
          <a:blip r:embed="rId1"/>
          <a:stretch/>
        </p:blipFill>
        <p:spPr>
          <a:xfrm>
            <a:off x="684360" y="836640"/>
            <a:ext cx="77752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609300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Девятый  вал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5" descr="картина Девятый вал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165360"/>
            <a:ext cx="8229600" cy="4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 Айвазовский «Ночь  в  Венеции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5" descr="Ночь в Венеции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5589720"/>
            <a:ext cx="8229600" cy="50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Зим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5" descr="Зима 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609264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.Шишкин  «Рож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5" descr="Рожь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1:26:10Z</dcterms:created>
  <dc:creator>Наталья</dc:creator>
  <dc:description/>
  <dc:language>en-US</dc:language>
  <cp:lastModifiedBy>Owner</cp:lastModifiedBy>
  <dcterms:modified xsi:type="dcterms:W3CDTF">2011-07-30T19:59:10Z</dcterms:modified>
  <cp:revision>4</cp:revision>
  <dc:subject/>
  <dc:title>Прекрасное  в  жизни  и  произведениях  искусства</dc:title>
</cp:coreProperties>
</file>